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29D-2BCE-4BB3-A570-147A1EAD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B72-1D89-4AC3-8CAB-36189157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2B1-0B11-4DA6-9EEC-A00D64A7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C85-B621-45AE-977F-B5F913D1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987-3666-4ECD-A5CB-037CA280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8F-716E-41BD-B64E-00EC9E91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3C7-4C7D-4249-A3A7-A5506B88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FAF-05C5-4474-895B-1877DC92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6D5-7529-432F-A345-DF5CA214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247-C778-409F-A976-15A7067F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D93-25BB-444F-8EC1-D61C4DD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649-684C-4AA5-A589-1D161928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6D7-89B4-4BF1-9A71-A44DB9DB5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360"/>
            <a:ext cx="8928000" cy="1628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1ac667fbeb4"/>
          <p:cNvPicPr/>
          <p:nvPr/>
        </p:nvPicPr>
        <p:blipFill>
          <a:blip r:embed="rId1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28000" cy="25178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 празднуют светлое Воскресение Христово. На Руси Пасха была не только самым почитаемым праздником, но и днем, когда каждый человек старался по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5525335_247792svetik"/>
          <p:cNvPicPr/>
          <p:nvPr/>
        </p:nvPicPr>
        <p:blipFill>
          <a:blip r:embed="rId1"/>
          <a:stretch/>
        </p:blipFill>
        <p:spPr>
          <a:xfrm>
            <a:off x="2340000" y="333360"/>
            <a:ext cx="4464000" cy="3568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715920"/>
            <a:ext cx="8928000" cy="30258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7 апреля по 8 мая. Главным событием празднества было торжественное богослужение в хра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oare-primavara"/>
          <p:cNvPicPr/>
          <p:nvPr/>
        </p:nvPicPr>
        <p:blipFill>
          <a:blip r:embed="rId1"/>
          <a:stretch/>
        </p:blipFill>
        <p:spPr>
          <a:xfrm>
            <a:off x="2195640" y="189000"/>
            <a:ext cx="4537080" cy="3403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8928000" cy="2590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Согласно традиции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2_Glavniii_sait_1500_big_r"/>
          <p:cNvPicPr/>
          <p:nvPr/>
        </p:nvPicPr>
        <p:blipFill>
          <a:blip r:embed="rId1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Picture 6" descr="0e2950ff3b30"/>
          <p:cNvPicPr/>
          <p:nvPr/>
        </p:nvPicPr>
        <p:blipFill>
          <a:blip r:embed="rId2"/>
          <a:stretch/>
        </p:blipFill>
        <p:spPr>
          <a:xfrm>
            <a:off x="4284720" y="1093680"/>
            <a:ext cx="3562200" cy="267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3716280"/>
            <a:ext cx="8928000" cy="3014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Пасху человек должен был отбросить все дурные, нечистые мысли, забыть зло и обиды, не гре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31758" t="12653" r="48335" b="40163"/>
          <a:stretch/>
        </p:blipFill>
        <p:spPr>
          <a:xfrm>
            <a:off x="324000" y="189000"/>
            <a:ext cx="2519280" cy="3359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Picture 6" descr="620df548ba2013bcbb728f91349d153f_1879558653_130275918016_800px"/>
          <p:cNvPicPr/>
          <p:nvPr/>
        </p:nvPicPr>
        <p:blipFill>
          <a:blip r:embed="rId2"/>
          <a:stretch/>
        </p:blipFill>
        <p:spPr>
          <a:xfrm>
            <a:off x="4140360" y="3254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e4960914acd"/>
          <p:cNvPicPr/>
          <p:nvPr/>
        </p:nvPicPr>
        <p:blipFill>
          <a:blip r:embed="rId1"/>
          <a:stretch/>
        </p:blipFill>
        <p:spPr>
          <a:xfrm>
            <a:off x="539640" y="115920"/>
            <a:ext cx="3108600" cy="362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4" name="Picture 6" descr="12fce5bc53d22254c3563cc6d01ae342"/>
          <p:cNvPicPr/>
          <p:nvPr/>
        </p:nvPicPr>
        <p:blipFill>
          <a:blip r:embed="rId2"/>
          <a:stretch/>
        </p:blipFill>
        <p:spPr>
          <a:xfrm>
            <a:off x="3780000" y="26028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65420885_nadruvelevcy-vstrechayut-pashu"/>
          <p:cNvPicPr/>
          <p:nvPr/>
        </p:nvPicPr>
        <p:blipFill>
          <a:blip r:embed="rId1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Picture 6" descr="103dc51f1e67"/>
          <p:cNvPicPr/>
          <p:nvPr/>
        </p:nvPicPr>
        <p:blipFill>
          <a:blip r:embed="rId2"/>
          <a:stretch/>
        </p:blipFill>
        <p:spPr>
          <a:xfrm>
            <a:off x="4788000" y="836640"/>
            <a:ext cx="3887640" cy="291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8" name="Picture 4" descr="660x446_21_b019592c5c5b4405ef95a943cda7ceb9@800x540_0xc0a8393c_11635824421370475348"/>
          <p:cNvPicPr/>
          <p:nvPr/>
        </p:nvPicPr>
        <p:blipFill>
          <a:blip r:embed="rId3"/>
          <a:stretch/>
        </p:blipFill>
        <p:spPr>
          <a:xfrm>
            <a:off x="98280" y="2741760"/>
            <a:ext cx="3910320" cy="2641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4005000"/>
            <a:ext cx="8856720" cy="27241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столу, их принято дарить друг другу всю Пасхальную недел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b0f9952b0357ad033249c84d6e47949"/>
          <p:cNvPicPr/>
          <p:nvPr/>
        </p:nvPicPr>
        <p:blipFill>
          <a:blip r:embed="rId1"/>
          <a:stretch/>
        </p:blipFill>
        <p:spPr>
          <a:xfrm>
            <a:off x="2411280" y="260280"/>
            <a:ext cx="4751640" cy="3567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508280"/>
            <a:ext cx="8928000" cy="2160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c0e7bb9d17c743341a770fd5f85443a"/>
          <p:cNvPicPr/>
          <p:nvPr/>
        </p:nvPicPr>
        <p:blipFill>
          <a:blip r:embed="rId1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3" name="Picture 8" descr="1244736197_1239546087_raz_045"/>
          <p:cNvPicPr/>
          <p:nvPr/>
        </p:nvPicPr>
        <p:blipFill>
          <a:blip r:embed="rId2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4" name="Picture 10" descr="65371"/>
          <p:cNvPicPr/>
          <p:nvPr/>
        </p:nvPicPr>
        <p:blipFill>
          <a:blip r:embed="rId3"/>
          <a:stretch/>
        </p:blipFill>
        <p:spPr>
          <a:xfrm>
            <a:off x="3203640" y="98100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Admin</cp:lastModifiedBy>
  <dcterms:modified xsi:type="dcterms:W3CDTF">2017-03-24T14:50:57Z</dcterms:modified>
  <cp:revision>18</cp:revision>
  <dc:subject/>
  <dc:title>ПАСХА</dc:title>
</cp:coreProperties>
</file>