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0C3-B816-41C2-A1D1-2F33C73C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AF5-A66E-4745-A989-B81768AE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BA3-FC4A-43AA-9F1C-213E5BEA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7CC-37B2-469A-87F1-392D30D3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3AB-D7A3-44B1-A30D-9C1E6812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C1C-DD6E-4AF5-9DF1-406AD4D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978-C5CC-42E2-8C1F-801AC4C1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54B-ECC6-42EA-A764-2C3E5308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C1B-4D61-4AD8-8E6A-9BD2CA01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912-2C11-4C8B-9637-2B99BDAB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C7E-A2B6-4FAC-9945-B2287BE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0AB-FFC4-428B-9521-437F9B8B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6D3-BC6F-4526-83B2-2195B1C64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360"/>
            <a:ext cx="8928000" cy="1628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1ac667fbeb4"/>
          <p:cNvPicPr/>
          <p:nvPr/>
        </p:nvPicPr>
        <p:blipFill>
          <a:blip r:embed="rId1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28000" cy="25178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 празднуют светлое Воскресение Христово. На Руси Пасха была не только самым почитаемым праздником, но и днем, когда каждый человек старался по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5525335_247792svetik"/>
          <p:cNvPicPr/>
          <p:nvPr/>
        </p:nvPicPr>
        <p:blipFill>
          <a:blip r:embed="rId1"/>
          <a:stretch/>
        </p:blipFill>
        <p:spPr>
          <a:xfrm>
            <a:off x="2340000" y="333360"/>
            <a:ext cx="4464000" cy="3568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715920"/>
            <a:ext cx="8928000" cy="30258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7 апреля по 8 мая. Главным событием празднества было торжественное богослужение в хра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oare-primavara"/>
          <p:cNvPicPr/>
          <p:nvPr/>
        </p:nvPicPr>
        <p:blipFill>
          <a:blip r:embed="rId1"/>
          <a:stretch/>
        </p:blipFill>
        <p:spPr>
          <a:xfrm>
            <a:off x="2195640" y="189000"/>
            <a:ext cx="4537080" cy="3403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8928000" cy="2590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Согласно традиции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2_Glavniii_sait_1500_big_r"/>
          <p:cNvPicPr/>
          <p:nvPr/>
        </p:nvPicPr>
        <p:blipFill>
          <a:blip r:embed="rId1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Picture 6" descr="0e2950ff3b30"/>
          <p:cNvPicPr/>
          <p:nvPr/>
        </p:nvPicPr>
        <p:blipFill>
          <a:blip r:embed="rId2"/>
          <a:stretch/>
        </p:blipFill>
        <p:spPr>
          <a:xfrm>
            <a:off x="4284720" y="1093680"/>
            <a:ext cx="3562200" cy="267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3716280"/>
            <a:ext cx="8928000" cy="3014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Пасху человек должен был отбросить все дурные, нечистые мысли, забыть зло и обиды, не гре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31758" t="12653" r="48335" b="40163"/>
          <a:stretch/>
        </p:blipFill>
        <p:spPr>
          <a:xfrm>
            <a:off x="324000" y="189000"/>
            <a:ext cx="2519280" cy="3359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Picture 6" descr="620df548ba2013bcbb728f91349d153f_1879558653_130275918016_800px"/>
          <p:cNvPicPr/>
          <p:nvPr/>
        </p:nvPicPr>
        <p:blipFill>
          <a:blip r:embed="rId2"/>
          <a:stretch/>
        </p:blipFill>
        <p:spPr>
          <a:xfrm>
            <a:off x="4140360" y="3254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e4960914acd"/>
          <p:cNvPicPr/>
          <p:nvPr/>
        </p:nvPicPr>
        <p:blipFill>
          <a:blip r:embed="rId1"/>
          <a:stretch/>
        </p:blipFill>
        <p:spPr>
          <a:xfrm>
            <a:off x="539640" y="115920"/>
            <a:ext cx="3108600" cy="362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4" name="Picture 6" descr="12fce5bc53d22254c3563cc6d01ae342"/>
          <p:cNvPicPr/>
          <p:nvPr/>
        </p:nvPicPr>
        <p:blipFill>
          <a:blip r:embed="rId2"/>
          <a:stretch/>
        </p:blipFill>
        <p:spPr>
          <a:xfrm>
            <a:off x="3780000" y="26028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65420885_nadruvelevcy-vstrechayut-pashu"/>
          <p:cNvPicPr/>
          <p:nvPr/>
        </p:nvPicPr>
        <p:blipFill>
          <a:blip r:embed="rId1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Picture 6" descr="103dc51f1e67"/>
          <p:cNvPicPr/>
          <p:nvPr/>
        </p:nvPicPr>
        <p:blipFill>
          <a:blip r:embed="rId2"/>
          <a:stretch/>
        </p:blipFill>
        <p:spPr>
          <a:xfrm>
            <a:off x="4788000" y="836640"/>
            <a:ext cx="3887640" cy="291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8" name="Picture 4" descr="660x446_21_b019592c5c5b4405ef95a943cda7ceb9@800x540_0xc0a8393c_11635824421370475348"/>
          <p:cNvPicPr/>
          <p:nvPr/>
        </p:nvPicPr>
        <p:blipFill>
          <a:blip r:embed="rId3"/>
          <a:stretch/>
        </p:blipFill>
        <p:spPr>
          <a:xfrm>
            <a:off x="98280" y="2741760"/>
            <a:ext cx="3910320" cy="2641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4005000"/>
            <a:ext cx="8856720" cy="27241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столу, их принято дарить друг другу всю Пасхальную недел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b0f9952b0357ad033249c84d6e47949"/>
          <p:cNvPicPr/>
          <p:nvPr/>
        </p:nvPicPr>
        <p:blipFill>
          <a:blip r:embed="rId1"/>
          <a:stretch/>
        </p:blipFill>
        <p:spPr>
          <a:xfrm>
            <a:off x="2411280" y="260280"/>
            <a:ext cx="4751640" cy="3567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508280"/>
            <a:ext cx="8928000" cy="2160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c0e7bb9d17c743341a770fd5f85443a"/>
          <p:cNvPicPr/>
          <p:nvPr/>
        </p:nvPicPr>
        <p:blipFill>
          <a:blip r:embed="rId1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3" name="Picture 8" descr="1244736197_1239546087_raz_045"/>
          <p:cNvPicPr/>
          <p:nvPr/>
        </p:nvPicPr>
        <p:blipFill>
          <a:blip r:embed="rId2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4" name="Picture 10" descr="65371"/>
          <p:cNvPicPr/>
          <p:nvPr/>
        </p:nvPicPr>
        <p:blipFill>
          <a:blip r:embed="rId3"/>
          <a:stretch/>
        </p:blipFill>
        <p:spPr>
          <a:xfrm>
            <a:off x="3203640" y="98100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Admin</cp:lastModifiedBy>
  <dcterms:modified xsi:type="dcterms:W3CDTF">2017-03-24T14:50:57Z</dcterms:modified>
  <cp:revision>18</cp:revision>
  <dc:subject/>
  <dc:title>ПАСХА</dc:title>
</cp:coreProperties>
</file>